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CCB-E866-497E-A277-83973DB0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B80-42D2-46BA-A4CC-E9FB39D0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D83-FA6E-413B-B5D7-48212AAA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1CD-66DF-4D21-8C9C-7D1DD137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286F-541F-47B8-B16A-1ED25226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3190-6189-4F2C-A46C-AC6C9453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91CD-8688-4C89-AF1D-3FF98C92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3FF7-6239-4DE0-BC17-0FA1B722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4296-F69D-4EF1-A2E8-DC728DF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AE86-06AA-4DBD-8861-C606713E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08BB-190A-4F43-ADAE-D082CFC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5AD-343F-473F-9D6B-BF087C9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22E0-9587-464C-9596-968D8541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9204-7FCA-4D66-9919-E207B3C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19B1-1D5C-482C-A70E-070C5440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35E3-C1CB-46AC-975C-8899C25D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A6EF-853F-443D-9D1A-C1331FE6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1497-E6C9-46D0-B57B-5D609F96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F11D-5275-4367-8417-89790D08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A9C6-6892-427A-9679-69BBABD1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7A20-A799-4DBC-9276-AB997A6B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8BF5-C3A1-428A-A44A-4ABC075C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673-E0EC-4282-A408-76D2FB4D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D475-1D2A-494B-B27E-8102520B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1113-6C7E-4BA8-B7D4-6A7F858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D400-5D97-486A-ADA8-8886AC84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4DBD-1A61-4CC2-8416-4ED942BF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355D-86C9-40CD-847D-A2757DE1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9851-BCF2-40C6-AB42-7FCB7B8F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04EDF-B544-4C81-9034-B6F40755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0B48-E97D-4460-B7AA-7EE56A79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29DD0-6D67-4E0C-80A6-A0558B97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D3E3-1461-4770-A691-503728B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083-F82E-4E53-AD3C-DEEE6F38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039E-1975-4373-9D8D-301A9617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5FB9-76B0-48DD-92D9-FE0C3F38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E4B86-C232-4132-9610-C5AD9543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130D-0DCB-43A3-8312-65C715BD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7639-E4A6-4C58-883C-C9BAC25A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3C642-C727-4439-BD71-EB941E6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0C15-6B5F-443B-AF61-A2BAA1AB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2FA54-58E0-4EBF-A742-520E9595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D527-C681-4B51-9E60-BE7BD77A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6A346-ED8D-488B-BC9C-F22BEFBD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A96-2230-43B7-8D51-3FC537C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2E474-D9F9-4774-8074-1228BE8A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99F5-7764-45D7-BB13-8A31D7A1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36FBE-AC62-4FB2-B228-B27DEC5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C22D-838F-4438-B4CD-46B1AAA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4E480-DAB6-4ED5-9457-06DA727F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DA50-FC86-44EF-93CF-279A96F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4A04-6548-406B-8BF7-B68F93F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BD39-43A0-4E48-BE66-9D820F7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9B9E-4D20-439B-A455-6070029D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8E4F-96EE-4570-BAA3-210BE0A3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F86-E99F-4CD4-92E9-F8BE6349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EF3CF-8195-4F07-8E06-B0196618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E63-DF58-411D-AB25-6BF19465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5C4-659D-4342-9142-40B4520D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4F5-600E-4386-8FF8-6F95F20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4392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68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2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18C42-CFE1-4BD6-8BF5-4A8A7A5DB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F673B-5C50-472F-BCFA-31EE67B93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390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580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763640" y="6094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203720" y="670716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515000" y="670716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8212A-4AC1-4BDD-9D4A-B6B342DE7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AB359-B842-4028-9D61-AFB5B1013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39640" y="6996240"/>
            <a:ext cx="23227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71480" y="6996240"/>
            <a:ext cx="31654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7080" y="6996240"/>
            <a:ext cx="2322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FEDD8-F3EB-413D-BA93-4370944232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5943600"/>
            <a:ext cx="4800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y :Hay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29040" y="6858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 Family Tre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00200" y="5742000"/>
            <a:ext cx="7086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 Mary 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nest when they got marri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971800" y="914400"/>
            <a:ext cx="3429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sour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20844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mily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743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ran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914400"/>
            <a:ext cx="27432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600200"/>
            <a:ext cx="2514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286000"/>
            <a:ext cx="6629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4200480"/>
            <a:ext cx="4343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job is going to schoo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971800"/>
            <a:ext cx="3200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twin s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 name is Jor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914400"/>
            <a:ext cx="2482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828800"/>
            <a:ext cx="7086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057400"/>
            <a:ext cx="4160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born in 7-8-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456000"/>
            <a:ext cx="3044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3456000"/>
            <a:ext cx="411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 student at Tp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2770200"/>
            <a:ext cx="525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born and lives in Jaspe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371600"/>
            <a:ext cx="228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00120"/>
            <a:ext cx="5943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1700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487760"/>
            <a:ext cx="3886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had two daugh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yli and Jordan that were born on 2002 July,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3886200"/>
            <a:ext cx="4800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orks at the hosp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2658960"/>
            <a:ext cx="4800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born in Jasper and lives in Jas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855800"/>
            <a:ext cx="457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born in Oct 3 ,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57400" y="5943600"/>
            <a:ext cx="5486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my mom my sister and 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828720"/>
            <a:ext cx="34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18288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August 25, 19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2514600"/>
            <a:ext cx="4703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married to Vern in 20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344760"/>
            <a:ext cx="4800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had two two daughter'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was born in -Oct 3 ,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ndy was born in -June 5 ,19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828720"/>
            <a:ext cx="20559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371600"/>
            <a:ext cx="1371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rand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716360"/>
            <a:ext cx="4572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 job is teaching she has been teaching for 40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14400" y="719280"/>
            <a:ext cx="86868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 Great Grandfath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5486400"/>
            <a:ext cx="8229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ward's jobs were farming ,He was a Firefighter for the city of New Bern, and a Deputy with Craven Cou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29718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married D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487760"/>
            <a:ext cx="8229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one daughter on  August 25,1948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r name was  Laur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6400800"/>
            <a:ext cx="457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67 when 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2090880"/>
            <a:ext cx="28036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19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in 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19240" y="3592440"/>
            <a:ext cx="525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 do not know when they got mar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rcRect l="4949" t="0" r="34648" b="0"/>
          <a:stretch/>
        </p:blipFill>
        <p:spPr>
          <a:xfrm>
            <a:off x="3200400" y="685800"/>
            <a:ext cx="368460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5800" y="5715000"/>
            <a:ext cx="8915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Edward when he was 5 years old and got his first s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85800"/>
            <a:ext cx="182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143000"/>
            <a:ext cx="4114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1828800"/>
            <a:ext cx="6172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18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in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3654360"/>
            <a:ext cx="5943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three girls and one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259160"/>
            <a:ext cx="7543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s of girls-Mamie Laura, Lula, Julia Man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of Boy- Ed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9066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married Ernest in 19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5284800"/>
            <a:ext cx="6400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died when she was 95 when s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25424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reat Great Grandmo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3:06:37Z</dcterms:created>
  <dc:creator/>
  <dc:description/>
  <dc:language>en-US</dc:language>
  <cp:lastModifiedBy/>
  <cp:revision>1</cp:revision>
  <dc:subject/>
  <dc:title/>
</cp:coreProperties>
</file>